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2.png" ContentType="image/png"/>
  <Override PartName="/ppt/media/image7.jpeg" ContentType="image/jpeg"/>
  <Override PartName="/ppt/media/image6.wmf" ContentType="image/x-wmf"/>
  <Override PartName="/ppt/media/image11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</p:sldIdLst>
  <p:sldSz cx="9144000" cy="6858000"/>
  <p:notesSz cx="6865938" cy="9996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3894-9886-4104-AC4A-3657B6DC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6694-A962-43AE-AE13-7D3EA85F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7753E-F33C-4E32-B988-52064500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48CF4-2F73-416A-8607-091096B3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DC3DA-B054-467C-B28A-7B3B949D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A79F7-6991-401B-9629-C714BAF9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DCB14-557E-4041-8D15-77E7018C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B22D5-9921-478D-B47A-8CBB240B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D106B-493B-460F-A125-82B9EDE5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DA615-956B-4CD7-95D0-B157F626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3BE31-3554-4039-AEB0-F942F0D6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C964D-74D0-4B84-98FF-F49BF4B3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103A-B215-4FDE-93DD-610FEBCD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A4EB3-08B3-43F3-AF63-013BB9D6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F093D-E5A2-4352-BF5E-3EA25035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3DA94-3C7E-4A20-B42D-BC28AE34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A2773-B0F2-49E8-B9C2-41069B5B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B65EC-CFEA-40A8-AE9C-04812BE0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D32B9-1F77-40D8-B667-F4F55558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3E299-6A16-4798-B7AE-D61D5129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0B641-C667-429D-96F8-B1BFD42E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6105F-36E9-464B-BF41-752F00E5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D5F54-2650-41D0-9517-886B9D9A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1FAD-2A9E-4BD2-9683-C935CBEC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E8F9E-D1CE-4A15-BFCA-694E1DB8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84AD2-30BA-4337-9123-6D959D34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AA7B9-504B-4A34-82B4-82B4E8BB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D01CB-F5EF-4FB5-9E63-74351DF1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A9E7D-B181-4C74-8848-0BE5F25F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65252-F9D6-41EA-BEAB-2C9924B6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CC9EC-DCDA-4BC1-B930-6CAF070E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99077-1B5E-4CFB-8F42-45DA4204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00951-468F-4FEF-94F1-EAA688BA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DD160-40B1-483E-87AD-1C075ECC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9A51-D5A9-46FA-BE18-C7C0272A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09C95-6D6A-49CC-8CE4-34CC9931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846A2-7842-4A00-A175-5555B317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65FB3-37E2-4851-AD2D-BFBF6E8B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6B08B-AAF6-4383-BC23-0001E655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01666-6A57-4133-B599-226B1CDC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17A45-AC69-45DB-8935-7E3062FC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68718-8B31-4C43-8AE1-66DFDE7B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0892D-6BD0-49F0-8E49-DAC7BEB7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789A1-46A9-4376-9D1F-C3DC7FD2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094E8-1BB6-44DB-A1B7-56BA847E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5F83-4697-44E0-84FD-65EB51F3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2A42A-44A2-4BEB-B811-FC4B7046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3E69E-ACF6-4C17-9DDE-A9AF6949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204B6-D4D4-4CDA-816C-D278F10D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ECA20-9372-46E7-AC69-EC281FDF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902C0-883F-47EC-A198-9D48BA59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F2316C-41CB-43AB-839A-2EEE8DEA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E1DB4A-9C4D-4740-986F-ED1D7360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8A3D1-9161-41EF-A6A1-01489BC2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083FA-F201-406F-956D-BDE6483D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38323E-3A9E-412D-9FE4-657CB7B2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2C44-526E-4292-A608-7794B531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B796CA-6F2D-407A-B92C-D63039A4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8F88F0-86F6-4A58-8557-D59CEDB9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59D67-3070-4D31-8575-F386CA88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4948F5-366A-4921-904D-8090CC85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B3EE21-9774-40A4-BE40-53BEF26B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401A4B-67BF-4453-9078-2B9D731C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5BFC48-81A9-4DF6-B8B8-E231BA02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CFF527-EE9E-4F45-8A7F-6340EAA4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0B22C5-6C9A-465E-916C-A70EBC76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7656DC-CC51-454D-A1CE-9BCB6BA9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1B4E-D6A8-43E5-BDA4-51E4B25C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2DFCEF-F7BE-4204-AD7C-7D574884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068428-A3A0-4CB2-A5DB-2427EDCF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1B81F7-D567-47F2-BD71-0259A55C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B08785-60EC-4E15-B06C-629FF951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CB2FB0-39B4-4F5F-B806-B96B878E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B4163D-4B3C-4891-8AC9-7A5FD25D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3F5AA2-105B-4535-8FC2-746C655C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976A65-D06D-4FED-B1EB-9F101DBA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30612B-C3F4-4173-BF84-CC742145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EE3C46-2112-4770-AFA6-115823E3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BEA3-83BE-49E7-A8BF-6B6C0B77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6E38D4-0893-41ED-A280-5432B43D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F7ED75-4C19-4698-A2A6-D547AFCE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E7C298-E4A1-47B3-9806-7C3E2F3F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9BD6D0-AF2A-43D6-B129-9BF09252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8507CD-5F42-4BFD-B831-57550503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D46F3A-D1BC-442C-AF6A-2A6AE390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4F42B9-388B-4835-B8A6-A9B30403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592AF9-D7A8-4C89-A9E0-A9689B73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DA1E45-38E2-4962-BA23-7612D80D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11C25F-92E0-4B36-B969-9F2BF98A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2025-C95A-4DB5-9017-C7B878F0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4AC021-AE03-42B4-9D87-8758FEEF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0592C7-302F-4E76-99DD-DE45964D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3226B8-5764-4FFE-9CDE-1B7A0C1C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559357-19F0-4640-9471-57372D9C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BCBB84-E340-41E8-911C-A2E80E87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0918DE-4B19-4887-A201-318E04FD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AA8488-E060-41BA-8ED2-45377A5E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C85CAC-5047-41D1-A75F-777E848F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D07E7D-D722-46DC-8972-DD69148F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56DAE3-BF91-4C36-A497-6926B5BC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ACD1-9F65-4DDC-8B68-54780055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09539F-E1F4-469D-89E6-794F0EE4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20DE12-DE8C-4DA2-A616-B5A2C9F5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B64ABA-E8B9-48F6-AFB9-92974331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027633-7D2B-4CB8-AD1F-516DE32B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AFA491-D093-4A29-961C-D4C5D1EA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D2E2D4-D456-47DE-96C7-067AB2B7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E554FF-8EBE-4383-90D5-4DD91188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0F914E-3EC2-4314-8349-455C65B5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C4D88A-268B-46C1-817B-3A08BA49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FC2F05-3A7E-44E9-A6C1-5FB654BB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AF7E-E029-4BEC-85D2-91AD3B20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611E-6551-4AB5-97C5-81957563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8AB309-6A32-44F6-A61A-F72453CD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8F6EED-4D9C-4DD4-9979-7F98C984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415C94-D5AE-4C97-AE88-313C7453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AE8EBF-A6CE-4E8E-ABBA-C91078C5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964047-C41D-4171-9014-B00AC9A0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8C33-275B-4F7A-A941-D81DCE47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9052-822B-48BA-B047-C3E2C094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C09F-6460-44A5-85E3-FDC6074A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BFD0-9ABD-4615-829F-4D347E88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24150-98D7-4926-B54B-93FDD5CD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8E4D3-3B1B-49A8-B899-F276D9E1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612A2-1A80-4BA1-BF69-B7BC7A10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79759-9BCF-445C-9CCB-4B611776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96575-E5C3-4F4E-9959-53EA19DC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520A-A289-4839-A9D7-3DBE1CDA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2481A-C635-4D21-96CB-AD32C16B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1B659-ADFB-4F78-9871-BDC4F9D4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BDB1C-AB71-4256-835A-B5257060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BCA54-3AB8-45BB-9F17-35583CA8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FCFD6-ADEC-4B37-8536-CC10326B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15FF0-10F5-43D7-A531-D8C6143F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81A13-6393-4BF7-BF4E-25686045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B0DD6-D626-4F75-97CB-D4748974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6A5D2-93D3-4785-8D8A-B641954A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75650-01D3-4170-B39E-642D24F5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BA2-BCD7-43D4-B796-E74EEAB2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A6EB6-56E8-4889-B42E-26A29A9A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0F85A-0815-46AF-8506-693C2E7C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5651E-3AAF-403D-903C-A8DCC492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4B068-94C7-4B49-963A-B9C4E917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77A83-844E-4140-8422-9FB149F8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55A5C-2253-4DEA-A3A8-CD176F8E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2F91D-D66B-4C3C-87B5-42C1C9AA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042BB-A89F-4DA8-B431-0950A95C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013C9-1414-478D-94C7-774FF9F9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961D2-4AFE-47DA-9B5E-EF14C48B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1714-E1F3-4E04-AD13-C333844A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F1A17-64B8-4404-ADDA-38569040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1FF22-4DEB-4DD7-B43B-01FC37C9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32FC7-1D0D-4D6C-A768-76C322CC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91CF4-4C95-4D70-8D54-3245E22A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66B59-FD1D-4CB1-BCFC-7251D991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7F5E4-CAFF-4DEC-8E8F-5008E79A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954F5-9F6C-4322-A868-08D26CF6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9CA43-7E08-4CD1-AD4B-AB90B41F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5DAC8-67F9-4863-B9CF-111ABB17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4E8CA-448B-4EA1-9442-F4FE74F5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457F-72FD-471F-BD12-6E5EB114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F8E44-57E4-4B64-A6BD-70340493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DF80A-1E6A-45D3-AA46-2234C1E4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0C389-3E19-40A1-A97C-D0B18267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0983A-5F4A-4200-8941-AF444AA2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8353C-AB21-46D1-9841-2A030C63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884CA-FFAC-4E9F-9700-2A2ABFAF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17C44-9AB2-4C26-B9D5-CEDD2A2B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A68EB-0973-407E-A9E0-C093FC6F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38AAE-3F8B-4CCA-9108-0FB21AD9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1212A-E89A-41EC-892A-1786D264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CD89-AC39-4062-865D-EFDFED28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62302-E1D4-4588-BB3B-80AD954F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3F251-B51D-45A1-922C-59E0FE6C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1C0EA-36C2-4EF7-BCAD-8788AA6F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0BC7C-AC15-4935-976B-750BA799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6BC76-AC38-4347-82BD-AB1A4C7D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805DE-2C40-49B6-9AC6-3EEC2DE1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24151-688E-4002-925D-F5276518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37419-6A0D-45AB-A314-27374C4F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229C9-2A18-4B0D-B119-3247538B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40CF3-7A62-4C60-BF44-5A13846F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248-F54E-400F-9074-CE38F101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91174-FF7E-4121-9CF1-13E90BEC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D5C0E-4CF6-47C6-9D9B-D4F50B2C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10889-CDFF-4849-971E-FE4B5EF7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01546-790A-4D53-8AA9-02AB2DDC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589A7-1BA9-467C-9B66-A29C4F26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3EF30-C152-4488-8A8B-6C3A4796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C6848-4CFF-4CBD-818F-7D434952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DAAD4-6ED0-4149-A082-722D1522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70A9A-1B81-4D8E-ABD6-D3E6E8CB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87F51-0E8C-4819-906A-8607C146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62D6-2271-48A4-B14D-7BBB121B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7DF94-A55A-4FB8-A388-6329202E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73100-80D8-48E4-9CD1-5BA96755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B274A-E2FF-44A3-88A2-143E17CB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87C12-9A98-4575-9785-A27F236C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7B9A1-1FE0-4945-9436-30AE542A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B7499-0A27-4BB9-8F69-B25709B0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873EF-97A6-48EE-A6E8-9C81DB65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E8270-4269-4CB8-8A24-AC460246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01FF7-05F8-4BFA-B8D9-79C282F0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BD7EA-84ED-4CE2-BE8E-CD05DC00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5F73FE-5ABA-48A4-BEC8-A385D574279A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0FD1E-4957-4011-9939-901A850027C5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E97C6-9EED-4DC0-8FD3-AE7639CAC3D7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3B088-A4EC-453D-8B0E-41B9A4B14733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760A8-C58F-4FDE-96DE-D6ADD01974D2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9C322-8B3D-4540-BCED-B8B8627A9733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42E33-4B4C-4735-936D-948864FBEE35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632D3-00AB-4897-BB19-6CA73102096D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93DAD-60BF-4C46-A81E-3B5DE366E735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0F16E-7E41-435C-87F6-C74AA99C350E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B2C1EC-687B-4479-B5B7-094AD1E7C86D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42A7A-5339-43C5-AF1E-97F9F63E987A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2924E9-CCA2-4E16-8292-2C5AF132AE24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4C967-0869-4046-9CA7-7C2875230453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DFA4E-AFDB-40B3-97FE-13E0F0D19524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649D66-E21A-4044-9512-9571EC250AC6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0A3F4-B6FE-4685-AFBC-F1D877834388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91B139-8393-4A6C-B0D0-9410711049F0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88B1E-F1BA-4764-8927-29E4BF428931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01E1A-8B3F-46C1-A90D-1A7D24286D64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F52298-EED8-45C3-A6F8-8D4C4635505F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35C7D-781D-41CD-BE2A-108606E0F604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4731C-D1EB-4E83-B20E-181C8D5D7B3A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7F4F4-97A5-4474-B7D6-1423901DE29B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78112-F27E-4258-92A1-76B22E9B30F0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D6E362-146B-4498-906C-5755253FFD23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45DC9-FAB5-4176-98BD-9ED3C7E73454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283E45-A5DB-4846-A594-A8E877A90CC8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06929-D72C-4487-921B-8BFF46F1264F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13C87-4CFF-4656-86BD-A669ED9B9EE0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73A25-F85C-4D2F-A6F0-383113D0FFF3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9D778-6528-450C-993A-D47C683E37BA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0C1FA-A426-4567-8B9C-A1798B634FE1}" type="datetime"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0F20B-D6AF-4016-8736-1EB609124BBC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bibliotecarezzo.it/" TargetMode="External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484360" y="1483920"/>
            <a:ext cx="6261120" cy="16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900" spc="-1" strike="noStrike">
                <a:solidFill>
                  <a:srgbClr val="7b724f"/>
                </a:solidFill>
                <a:latin typeface="Modern No. 20"/>
              </a:rPr>
              <a:t>Relazione alla Performance anno 2022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77" name="Picture 2" descr="BCA Verticale 5x10"/>
          <p:cNvPicPr/>
          <p:nvPr/>
        </p:nvPicPr>
        <p:blipFill>
          <a:blip r:embed="rId1"/>
          <a:stretch/>
        </p:blipFill>
        <p:spPr>
          <a:xfrm>
            <a:off x="1042920" y="344520"/>
            <a:ext cx="2255760" cy="6222960"/>
          </a:xfrm>
          <a:prstGeom prst="rect">
            <a:avLst/>
          </a:prstGeom>
          <a:ln w="0">
            <a:noFill/>
          </a:ln>
        </p:spPr>
      </p:pic>
      <p:sp>
        <p:nvSpPr>
          <p:cNvPr id="1178" name="AutoShape 6"/>
          <p:cNvSpPr/>
          <p:nvPr/>
        </p:nvSpPr>
        <p:spPr>
          <a:xfrm>
            <a:off x="141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9" name="Rettangolo 3"/>
          <p:cNvSpPr/>
          <p:nvPr/>
        </p:nvSpPr>
        <p:spPr>
          <a:xfrm>
            <a:off x="4500720" y="3429000"/>
            <a:ext cx="442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«Ho saccheggiato le biblioteche pubbliche, e le ho trovate piene di tesori affondati»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(Virginia Woolf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6840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262626"/>
                </a:solidFill>
                <a:latin typeface="Century Gothic"/>
              </a:rPr>
              <a:t>2. Ciclo della Performanc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1042920" y="1773000"/>
            <a:ext cx="74167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700" spc="-1" strike="noStrike">
                <a:solidFill>
                  <a:srgbClr val="404040"/>
                </a:solidFill>
                <a:latin typeface="Century Gothic"/>
              </a:rPr>
              <a:t>OBIETTIVO STRATEGICO N. 2 (OB2):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 u="sng">
                <a:solidFill>
                  <a:srgbClr val="404040"/>
                </a:solidFill>
                <a:uFillTx/>
                <a:latin typeface="Century Gothic"/>
              </a:rPr>
              <a:t>Giornate di studio dedicate alle nuove acquisizioni di manoscritti e libri antichi a stampa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404040"/>
                </a:solidFill>
                <a:latin typeface="Century Gothic"/>
              </a:rPr>
              <a:t>In occasione dell’acquisto di nuovi testi antichi la Biblioteca ha organizzato un ciclo di incontri alla presenza di studiosi e professori universitari per illustrare alla cittadinanza l’importanza di tali acquisizioni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000" spc="-1" strike="noStrike">
                <a:solidFill>
                  <a:srgbClr val="404040"/>
                </a:solidFill>
                <a:latin typeface="Century Gothic"/>
              </a:rPr>
              <a:t>ALLA DATA DEL 31/12/2022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000" spc="-1" strike="noStrike">
                <a:solidFill>
                  <a:srgbClr val="404040"/>
                </a:solidFill>
                <a:latin typeface="Century Gothic"/>
              </a:rPr>
              <a:t>L’OBIETTIVO RISULTA PIENAMENTE RAGGIUNTO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800" spc="-1" strike="noStrike" u="sng">
                <a:solidFill>
                  <a:srgbClr val="ff0000"/>
                </a:solidFill>
                <a:uFillTx/>
                <a:latin typeface="Century Gothic"/>
              </a:rPr>
              <a:t>PUNTEGGIO ASSEGNATO DA NUCLEO DI VALUTAZIONE 100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Segnaposto piè di pagina 2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880"/>
            <a:ext cx="658980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262626"/>
                </a:solidFill>
                <a:latin typeface="Century Gothic"/>
              </a:rPr>
              <a:t>2. Ciclo della Performanc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38" name="Segnaposto contenuto 4" descr=""/>
          <p:cNvPicPr/>
          <p:nvPr/>
        </p:nvPicPr>
        <p:blipFill>
          <a:blip r:embed="rId1"/>
          <a:stretch/>
        </p:blipFill>
        <p:spPr>
          <a:xfrm>
            <a:off x="2987640" y="1484280"/>
            <a:ext cx="3586320" cy="5072040"/>
          </a:xfrm>
          <a:prstGeom prst="rect">
            <a:avLst/>
          </a:prstGeom>
          <a:ln w="0">
            <a:noFill/>
          </a:ln>
        </p:spPr>
      </p:pic>
      <p:sp>
        <p:nvSpPr>
          <p:cNvPr id="1239" name="Segnaposto piè di pagina 3"/>
          <p:cNvSpPr/>
          <p:nvPr/>
        </p:nvSpPr>
        <p:spPr>
          <a:xfrm rot="5400000">
            <a:off x="5676120" y="70412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Century Gothic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6840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262626"/>
                </a:solidFill>
                <a:latin typeface="Century Gothic"/>
              </a:rPr>
              <a:t>2. Ciclo della Performanc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1042560" y="1267920"/>
            <a:ext cx="7193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900" spc="-1" strike="noStrike">
                <a:solidFill>
                  <a:srgbClr val="404040"/>
                </a:solidFill>
                <a:latin typeface="Century Gothic"/>
              </a:rPr>
              <a:t>PERSONALE E VALUTAZIONE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n. 3   </a:t>
            </a:r>
            <a:r>
              <a:rPr b="0" lang="it-IT" sz="1500" spc="-1" strike="noStrike">
                <a:solidFill>
                  <a:srgbClr val="000000"/>
                </a:solidFill>
                <a:latin typeface="Century Gothic"/>
              </a:rPr>
              <a:t>dipendenti categoria B    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entury Gothic"/>
              </a:rPr>
              <a:t>n. 1 dipendente categoria C           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entury Gothic"/>
              </a:rPr>
              <a:t>n. 2   dipendenti categoria D</a:t>
            </a:r>
            <a:r>
              <a:rPr b="0" lang="it-IT" sz="15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entury Gothic"/>
              </a:rPr>
              <a:t>   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entury Gothic"/>
              </a:rPr>
              <a:t>MEDIA COMPLESSIVA = 102,2</a:t>
            </a: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entury Gothic"/>
              </a:rPr>
              <a:t>MEDIANA = 102</a:t>
            </a: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entury Gothic"/>
              </a:rPr>
              <a:t>STDEV = 1,63</a:t>
            </a: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entury Gothic"/>
              </a:rPr>
              <a:t>MINIMO = 101</a:t>
            </a: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entury Gothic"/>
              </a:rPr>
              <a:t>MASSIMO = 105</a:t>
            </a: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Alcune mansioni del servizio di front-office sono state temporaneamente garantite da personale LSU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Le mansioni dei due precedenti bibliotecari sono state assegnate in parte al personale rimasto in servizio, altre sono state affidate, attraverso gara pubblica, a ditta esterna.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Segnaposto piè di pagina 2"/>
          <p:cNvSpPr/>
          <p:nvPr/>
        </p:nvSpPr>
        <p:spPr>
          <a:xfrm>
            <a:off x="4643280" y="6165720"/>
            <a:ext cx="32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684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262626"/>
                </a:solidFill>
                <a:latin typeface="Century Gothic"/>
              </a:rPr>
              <a:t>3. Bilancio della Bibliotec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1619280" y="2133720"/>
            <a:ext cx="7146720" cy="34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Il Bilancio della Biblioteca è prevalentemente coperto dal Comune di Arezzo e dalla Regione Toscana, nel dettaglio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COMUNE DI AREZZO euro 434.500,00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REGIONE TOSCANA euro 64.422,30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MIBACT euro 8.732,17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ALTRE AMMINISTRAZIONI euro 26.617,00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ENTRATE PROPRIE da servizi al pubblico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euro 1.432,20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Altre entrate euro 23.591,08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5" name="Segnaposto piè di pagina 3"/>
          <p:cNvSpPr/>
          <p:nvPr/>
        </p:nvSpPr>
        <p:spPr>
          <a:xfrm>
            <a:off x="4859280" y="62373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6" name="CasellaDiTesto 6"/>
          <p:cNvSpPr/>
          <p:nvPr/>
        </p:nvSpPr>
        <p:spPr>
          <a:xfrm>
            <a:off x="1042920" y="1413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a65f12"/>
                </a:solidFill>
                <a:latin typeface="Century Gothic"/>
              </a:rPr>
              <a:t>ENTRATE DELLA BIBLIOTECA ANNO 2022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6912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7b724f"/>
                </a:solidFill>
                <a:latin typeface="Century Gothic"/>
              </a:rPr>
              <a:t>3. Bilancio della Bibliotec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1547280" y="1557360"/>
            <a:ext cx="72723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742217"/>
                </a:solidFill>
                <a:latin typeface="Candara"/>
              </a:rPr>
              <a:t>SPESE DELLA BIBLIOTECA  PER L’ANNO 2022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COSTO DEL PERSONALE:  128.707,80 euro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ACQUISTO LIBRI BIBLIOTECA:  26.810,69 euro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ACQUISTO LIBRI PER RETE DOCUMENTARIA: 48.363,36 euro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SERVIZI BIBLIOTECARI ESTERNALIZZATI: 96.031,26 euro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MANUTENZIONE ASSISTENZA RETE INFORMATICA (</a:t>
            </a: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COMPRESO SOTWARE GESTIONE RETE EOS.WEB E CLAVIS</a:t>
            </a: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): 17.756,00  euro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MANUTENZIONE PALAZZO PRETORIO E UTENZE: 68.848,23  euro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9" name="Segnaposto piè di pagina 3"/>
          <p:cNvSpPr/>
          <p:nvPr/>
        </p:nvSpPr>
        <p:spPr>
          <a:xfrm>
            <a:off x="1908000" y="6165720"/>
            <a:ext cx="47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402920" y="404640"/>
            <a:ext cx="6913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7b724f"/>
                </a:solidFill>
                <a:latin typeface="Century Gothic"/>
              </a:rPr>
              <a:t>4. Patrimonio documentario </a:t>
            </a:r>
            <a:br>
              <a:rPr sz="2800"/>
            </a:br>
            <a:r>
              <a:rPr b="0" lang="it-IT" sz="2800" spc="-1" strike="noStrike">
                <a:solidFill>
                  <a:srgbClr val="7b724f"/>
                </a:solidFill>
                <a:latin typeface="Century Gothic"/>
              </a:rPr>
              <a:t>della Biblioteca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755280" y="1557360"/>
            <a:ext cx="806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000" spc="-1" strike="noStrike">
                <a:solidFill>
                  <a:srgbClr val="404040"/>
                </a:solidFill>
                <a:latin typeface="Century Gothic"/>
              </a:rPr>
              <a:t>CONSISTENZA PATRIMONIO DOCUMENTARIO al 31.12.2021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Manoscritti medievali e post-medievali: 596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Edizioni del XV secolo (incunaboli):  197 opere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Edizioni del XVI secolo (cinquecentine):  4.265 libri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Edizioni dal 1601 al 1830 : 21.586 libri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Edizioni dal 1830 al 2017: 157.100 documenti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Periodici antichi e correnti: 270 testate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Fondi Archivistici: 7 (per un totale di circa 1.990 filze archivistiche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Multimediale: 3.200 dvd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Fondi speciali: Ipovedenti libri in braille 128, audiocassette 386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Fondi speciali: Carpitella 112 bobine e due filze archivistiche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2" name="Segnaposto piè di pagina 3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606096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7b724f"/>
                </a:solidFill>
                <a:latin typeface="Century Gothic"/>
              </a:rPr>
              <a:t>5. Attività Bibliotecari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1979640" y="1700280"/>
            <a:ext cx="61848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404040"/>
                </a:solidFill>
                <a:latin typeface="Century Gothic"/>
              </a:rPr>
              <a:t>PROCESSI PORTANTI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Century Gothic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Progettazione dell’offert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Century Gothic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Gestione delle Risorse Informativ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Century Gothic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Promozione dell’offert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Century Gothic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Gestione Servizi agli Utenti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Century Gothic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Gestione Servizi Supplementari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Century Gothic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Gestione Rete Documentaria Aretina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5" name="Segnaposto piè di pagina 3"/>
          <p:cNvSpPr/>
          <p:nvPr/>
        </p:nvSpPr>
        <p:spPr>
          <a:xfrm>
            <a:off x="4379760" y="6408720"/>
            <a:ext cx="307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60613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7b724f"/>
                </a:solidFill>
                <a:latin typeface="Century Gothic"/>
              </a:rPr>
              <a:t>5. Attività Bibliotecari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1042560" y="1557000"/>
            <a:ext cx="7489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700" spc="-1" strike="noStrike">
                <a:solidFill>
                  <a:srgbClr val="404040"/>
                </a:solidFill>
                <a:latin typeface="Century Gothic"/>
              </a:rPr>
              <a:t>MACRO-ATTIVITA’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I. PROGETTAZIONE DELL’OFFERTA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Definizione delle politiche e delle strategie generali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Progettazione delle attività della Biblioteca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Progetto di ogni singola attività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Redazione regolamenti e documenti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II. CONSERVAZIONE E GESTIONE DELLE RISORSE INFORMATIV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Gestione acquisti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Gestione doni e scambi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Gestione del patrimonio librario antico e moderno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Gestione periodici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Gestione materiale multimedial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Gestione Deposito Legale ai sensi del DPR 252/2006 e L. 106/2004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Revisione delle raccolt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Segnaposto piè di pagina 3"/>
          <p:cNvSpPr/>
          <p:nvPr/>
        </p:nvSpPr>
        <p:spPr>
          <a:xfrm>
            <a:off x="4379760" y="6408720"/>
            <a:ext cx="314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9" name="Picture 2" descr=""/>
          <p:cNvPicPr/>
          <p:nvPr/>
        </p:nvPicPr>
        <p:blipFill>
          <a:blip r:embed="rId1"/>
          <a:stretch/>
        </p:blipFill>
        <p:spPr>
          <a:xfrm>
            <a:off x="6948360" y="907920"/>
            <a:ext cx="17049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60609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7b724f"/>
                </a:solidFill>
                <a:latin typeface="Century Gothic"/>
              </a:rPr>
              <a:t>5. Attività Bibliotecari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1116000" y="1915920"/>
            <a:ext cx="71928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III. PROMOZIONE DELL’OFFERTA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Progettazione promozione (mostre, presentazioni, convegno, giornate di studio, incontri, ecc.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Costruzione mailing list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Creazione di materiale promozionale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Collaborazione con Ufficio Stampa del Comune di Arezzo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Gestione sito web </a:t>
            </a:r>
            <a:r>
              <a:rPr b="0" lang="it-IT" sz="20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www.bibliotecarezzo.it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Gestione pagina Facebook e Instagram della Biblioteca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Animazioni e letture per bambini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2" name="Segnaposto piè di pagina 3"/>
          <p:cNvSpPr/>
          <p:nvPr/>
        </p:nvSpPr>
        <p:spPr>
          <a:xfrm>
            <a:off x="4379760" y="6408720"/>
            <a:ext cx="3360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6060960" cy="65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262626"/>
                </a:solidFill>
                <a:latin typeface="Century Gothic"/>
              </a:rPr>
              <a:t>5. Attività Bibliotecarie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971640" y="1844640"/>
            <a:ext cx="382248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IV. GESTIONE SERVIZI AGLI UTENTI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Lettura in sed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Prestito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Prestito interbibliotecario e </a:t>
            </a:r>
            <a:r>
              <a:rPr b="0" i="1" lang="it-IT" sz="1800" spc="-1" strike="noStrike">
                <a:solidFill>
                  <a:srgbClr val="404040"/>
                </a:solidFill>
                <a:latin typeface="Century Gothic"/>
              </a:rPr>
              <a:t>Document Deliver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1800" spc="-1" strike="noStrike">
                <a:solidFill>
                  <a:srgbClr val="404040"/>
                </a:solidFill>
                <a:latin typeface="Century Gothic"/>
              </a:rPr>
              <a:t>Referenc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Fotocopi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Riproduzioni digitali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Postazioni internet e Wi-Fi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Visite guidat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4859280" y="1844280"/>
            <a:ext cx="41767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V.  GESTIONE SERVIZI SUPPLEMENTARI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Sezione Ragazzi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Biblioteca in Ospedal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BiblioCoop via V.Veneto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Bibliocoop viale Amendol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Casa dell’Energi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Gestione </a:t>
            </a:r>
            <a:r>
              <a:rPr b="0" i="1" lang="it-IT" sz="1800" spc="-1" strike="noStrike">
                <a:solidFill>
                  <a:srgbClr val="404040"/>
                </a:solidFill>
                <a:latin typeface="Century Gothic"/>
              </a:rPr>
              <a:t>stage</a:t>
            </a: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 universitari e tirocini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6" name="Segnaposto piè di pagina 4"/>
          <p:cNvSpPr/>
          <p:nvPr/>
        </p:nvSpPr>
        <p:spPr>
          <a:xfrm>
            <a:off x="4379760" y="6408720"/>
            <a:ext cx="3576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63272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800" spc="-1" strike="noStrike">
                <a:solidFill>
                  <a:srgbClr val="7b724f"/>
                </a:solidFill>
                <a:latin typeface="Century Gothic"/>
              </a:rPr>
              <a:t>1. Presentazione della Biblioteca</a:t>
            </a:r>
            <a:endParaRPr b="0" lang="en-US" sz="3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1258920" y="1628640"/>
            <a:ext cx="7778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300" spc="-1" strike="noStrike">
                <a:solidFill>
                  <a:srgbClr val="404040"/>
                </a:solidFill>
                <a:latin typeface="Century Gothic"/>
              </a:rPr>
              <a:t>STORIA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L’Istituzione Biblioteca Città di Arezzo è stata costituita nel 1992, a seguito dell'entrata in vigore della L. 142/1990 e dallo scioglimento del Consorzio per la Gestione della Biblioteca Città di Arezzo fra la Provincia di Arezzo, il Comune di Arezzo, la Fraternita dei Laici e l'Accademia Petrarca di Lettere Arti e Scienze. 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Dal 2009 l’Istituzione Biblioteca Città di Arezzo è diventata la biblioteca capo-fila della Rete Documentaria Aretina costituita da 28 biblioteche della provincia di Arezzo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300" spc="-1" strike="noStrike">
                <a:solidFill>
                  <a:srgbClr val="404040"/>
                </a:solidFill>
                <a:latin typeface="Century Gothic"/>
              </a:rPr>
              <a:t>MISSION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Il grande patrimonio librario della Biblioteca Città di Arezzo, rappresenta una delle maggiori raccolte librarie della Toscana e riunisce in sé la storia di biblioteche antiche appartenute a istituzioni come la Fraternita dei Laici o a privati come il Redi, il Fossombroni, il Gamurrini, ecc.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La Biblioteca vuole mettere al servizio della comunità dei lettori il proprio patrimonio e con il loro contributo vuole implementarlo e renderlo sempre più accessibile ai cittadini di ogni età e di ogni formazione culturale; vuole essere radicata nella propria comunità territoriale e nello stesso tempo aperta alle culture della contemporaneità, aperta al dialogo con le persone che la utilizzano e veicolo di un libero accesso alla formazione e alla conoscenza, attenta alle esigenze individuali e di gruppo, di studio, di apprendimento e di ricerca.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Superfice totale: 2.130 mq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Superfice per il pubblico: 560 mq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Metri lineari di scaffalature libri: 6.472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Postazioni sale di lettura : 195 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Postazioni pc al pubblico: 14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2" name="Segnaposto piè di pagina 3"/>
          <p:cNvSpPr/>
          <p:nvPr/>
        </p:nvSpPr>
        <p:spPr>
          <a:xfrm>
            <a:off x="4932360" y="62373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402920" y="691920"/>
            <a:ext cx="6278760" cy="108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262626"/>
                </a:solidFill>
                <a:latin typeface="Century Gothic"/>
              </a:rPr>
              <a:t>5. Attività Bibliotecarie</a:t>
            </a:r>
            <a:br>
              <a:rPr sz="3200"/>
            </a:br>
            <a:r>
              <a:rPr b="0" lang="it-IT" sz="2200" spc="-1" strike="noStrike">
                <a:solidFill>
                  <a:srgbClr val="262626"/>
                </a:solidFill>
                <a:latin typeface="Century Gothic"/>
              </a:rPr>
              <a:t>VI. GESTIONE RETE DOCUMENTARIA ARETINA</a:t>
            </a:r>
            <a:br>
              <a:rPr sz="2200"/>
            </a:br>
            <a:r>
              <a:rPr b="0" lang="it-IT" sz="22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971640" y="2060280"/>
            <a:ext cx="38210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Predisposizione di progetti per richiesta di finanziamenti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Organizzazione delle riunioni di coordinamento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Realizzazione dei progetti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Gestione entrate e uscite della ret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Gestione acquisti di libri centralizzati e coordinati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Realizzazione di attività di promozione di ret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Organizzazione e realizzazione corsi di formazione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4788000" y="1988640"/>
            <a:ext cx="38224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Controllo delle rilevazioni statistiche delle Biblioteche della Rete (Monitoraggio Simonlib)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Gestione Rapporti con Provincia di Arezzo, Regione Toscana e Comuni che fanno parte della Rete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Gestione sito web www.retedocumentaria.arezzo.it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Gestione del Catalogo unico della Rete Eos.web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Gestione del prestito interbibliotecario della ret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0" name="Segnaposto piè di pagina 4"/>
          <p:cNvSpPr/>
          <p:nvPr/>
        </p:nvSpPr>
        <p:spPr>
          <a:xfrm>
            <a:off x="4379760" y="6408720"/>
            <a:ext cx="4008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476360" y="620280"/>
            <a:ext cx="606096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262626"/>
                </a:solidFill>
                <a:latin typeface="Century Gothic"/>
              </a:rPr>
              <a:t>6. Servizi per il Pubblico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1042560" y="1557360"/>
            <a:ext cx="3822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Orario di apertura dal Lunedì al Venerdì dalle 8.30 alle 19.30 e Sabato dalle 8.30 alle 13.30 (ridotto a lun, merc, ven e sab 8.30-13.30 e mart e giov 14.30-19.30)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3 sale di Lettura per studio e consultazion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Prestito, di materiale librario, audiovisivi e e-book, per utenti e scuole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Consultazione in sede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Servizio </a:t>
            </a:r>
            <a:r>
              <a:rPr b="0" i="1" lang="it-IT" sz="1700" spc="-1" strike="noStrike">
                <a:solidFill>
                  <a:srgbClr val="404040"/>
                </a:solidFill>
                <a:latin typeface="Century Gothic"/>
              </a:rPr>
              <a:t>referenc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Computer disponibili al pubblico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Internet e Wi- Fi all’interno dell’edificio e nei chiostri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Fotocopie, stampe e scannerizzazioni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4788000" y="1569960"/>
            <a:ext cx="38224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Prestito interbibliotecario nazionale e internazional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Consultazione catalogo on-line in biblioteca e da rete web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1700" spc="-1" strike="noStrike">
                <a:solidFill>
                  <a:srgbClr val="404040"/>
                </a:solidFill>
                <a:latin typeface="Century Gothic"/>
              </a:rPr>
              <a:t>Desiderata</a:t>
            </a: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 (richiesta di acquisto libri)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Visite guidate per le scuol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Concessione Sala Conferenz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Didattica per le scuol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Adesione al Progetto nazionale Nati per Legger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Adesione al Progetto nazionale SBN del catalogo unico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MediaLibraryOnLine (MLOL) biblioteca digital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Segnaposto piè di pagina 4"/>
          <p:cNvSpPr/>
          <p:nvPr/>
        </p:nvSpPr>
        <p:spPr>
          <a:xfrm>
            <a:off x="4379760" y="6408720"/>
            <a:ext cx="372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60609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262626"/>
                </a:solidFill>
                <a:latin typeface="Century Gothic"/>
              </a:rPr>
              <a:t>7. Sedi Decentrate </a:t>
            </a:r>
            <a:br>
              <a:rPr sz="3200"/>
            </a:br>
            <a:r>
              <a:rPr b="0" lang="it-IT" sz="32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it-IT" sz="2400" spc="-1" strike="noStrike">
                <a:solidFill>
                  <a:srgbClr val="262626"/>
                </a:solidFill>
                <a:latin typeface="Century Gothic"/>
              </a:rPr>
              <a:t>Punti di lettura e prestito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1042920" y="1916280"/>
            <a:ext cx="7516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900" spc="-1" strike="noStrike">
                <a:solidFill>
                  <a:srgbClr val="404040"/>
                </a:solidFill>
                <a:latin typeface="Century Gothic"/>
              </a:rPr>
              <a:t>Sezione Ragazzi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900" spc="-1" strike="noStrike">
                <a:solidFill>
                  <a:srgbClr val="404040"/>
                </a:solidFill>
                <a:latin typeface="Century Gothic"/>
              </a:rPr>
              <a:t>Fornisce un servizio di base per utenti dai </a:t>
            </a:r>
            <a:r>
              <a:rPr b="1" lang="it-IT" sz="1900" spc="-1" strike="noStrike">
                <a:solidFill>
                  <a:srgbClr val="404040"/>
                </a:solidFill>
                <a:latin typeface="Century Gothic"/>
              </a:rPr>
              <a:t>0 ai 14 anni</a:t>
            </a:r>
            <a:r>
              <a:rPr b="0" lang="it-IT" sz="1900" spc="-1" strike="noStrike">
                <a:solidFill>
                  <a:srgbClr val="404040"/>
                </a:solidFill>
                <a:latin typeface="Century Gothic"/>
              </a:rPr>
              <a:t>, proponendosi come luogo dove i ragazzi  possono scegliere in libertà quando e cosa leggere attraverso un approccio ai libri stimolante e piacevole. Attività di animazione, letture e laboratori didattici per scuole.</a:t>
            </a:r>
            <a:r>
              <a:rPr b="0" lang="it-IT" sz="1900" spc="-1" strike="noStrike">
                <a:solidFill>
                  <a:srgbClr val="404040"/>
                </a:solidFill>
                <a:latin typeface="Century Gothic"/>
              </a:rPr>
              <a:t>	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900" spc="-1" strike="noStrike">
                <a:solidFill>
                  <a:srgbClr val="404040"/>
                </a:solidFill>
                <a:latin typeface="Century Gothic"/>
              </a:rPr>
              <a:t>Biblioteca presso Ospedale San Donato di Arezzo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900" spc="-1" strike="noStrike">
                <a:solidFill>
                  <a:srgbClr val="404040"/>
                </a:solidFill>
                <a:latin typeface="Century Gothic"/>
              </a:rPr>
              <a:t>(in collaborazione con: ASL8 - AUSER - Centro Soc. Pescaiola - AVO)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900" spc="-1" strike="noStrike">
                <a:solidFill>
                  <a:srgbClr val="404040"/>
                </a:solidFill>
                <a:latin typeface="Century Gothic"/>
              </a:rPr>
              <a:t>Rivolto a tutte le persone che vanno, lavorano e sono ricoverate in ospedale, la biblioteca offre un servizio di prestito circolante nei reparti dell’ospedale e un punto di prestito, posto a piano terra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7" name="Segnaposto piè di pagina 3"/>
          <p:cNvSpPr/>
          <p:nvPr/>
        </p:nvSpPr>
        <p:spPr>
          <a:xfrm>
            <a:off x="4379760" y="6408720"/>
            <a:ext cx="343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547640" y="620280"/>
            <a:ext cx="6059520" cy="13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 Gothic"/>
              </a:rPr>
              <a:t>7. Sedi Decentrate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entury Gothic"/>
              </a:rPr>
              <a:t>Punti di lettura e prestito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899640" y="1989000"/>
            <a:ext cx="720108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700" spc="-1" strike="noStrike">
                <a:solidFill>
                  <a:srgbClr val="404040"/>
                </a:solidFill>
                <a:latin typeface="Century Gothic"/>
              </a:rPr>
              <a:t>Bibliocoop</a:t>
            </a: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(presso Supermercato via V. Veneto e presso Centro Comm.le Setteponti)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La sede in via V. Veneto è stata inaugurata a giugno 2013, nella quale sono a disposizione più di 2.400 pubblicazioni per la lettura e per il prestito, sia per adulti che per bambini. La sede presso il Centro Comm.le Setteponti è stata inaugurata nel 2016, nel quale sono a disposizione più d 1.200 pubblicazioni tra libri per adulti e bambini e film in dvd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entury Gothic"/>
              </a:rPr>
              <a:t>Casa dell’Energia (Ex Fonderia Bastanzetti)</a:t>
            </a:r>
            <a:r>
              <a:rPr b="0" lang="it-IT" sz="17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La sede inaugurata il 12 maggio 2018 conserva una raccolta di libri dedicati all’energia rinnovabile, l’ambiente, il riciclo dei materiali, le energie alternative, la qualità della vita e il benessere della persona. Attualmente si trovano 600 pubblicazione in accrescimento costante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0" name="Segnaposto piè di pagina 3"/>
          <p:cNvSpPr/>
          <p:nvPr/>
        </p:nvSpPr>
        <p:spPr>
          <a:xfrm>
            <a:off x="4379760" y="6408720"/>
            <a:ext cx="3648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547280" y="60444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262626"/>
                </a:solidFill>
                <a:latin typeface="Century Gothic"/>
              </a:rPr>
              <a:t>8. </a:t>
            </a:r>
            <a:r>
              <a:rPr b="0" lang="it-IT" sz="2400" spc="-1" strike="noStrike">
                <a:solidFill>
                  <a:srgbClr val="262626"/>
                </a:solidFill>
                <a:latin typeface="Century Gothic"/>
              </a:rPr>
              <a:t>Tariffe dei servizi a pagamento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971640" y="2060640"/>
            <a:ext cx="4176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500" spc="-1" strike="noStrike">
                <a:solidFill>
                  <a:srgbClr val="404040"/>
                </a:solidFill>
                <a:latin typeface="Century Gothic"/>
              </a:rPr>
              <a:t>Concessione sale conferenze e chiostro </a:t>
            </a:r>
            <a:br>
              <a:rPr sz="1500"/>
            </a:b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€ 100,00 per un solo giorno di utilizzo delle sale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Turini e Fossombroni,</a:t>
            </a:r>
            <a:br>
              <a:rPr sz="1500"/>
            </a:b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€ 35,00 al giorno per i successivi giorni di utilizzo continuativo delle sale;</a:t>
            </a:r>
            <a:br>
              <a:rPr sz="1500"/>
            </a:b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€ 60,00 per un solo giorno di utilizzo del chiostro,</a:t>
            </a:r>
            <a:br>
              <a:rPr sz="1500"/>
            </a:b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€ 25,00 al giorno per i successivi giorni di utilizzo del chiostro.</a:t>
            </a:r>
            <a:br>
              <a:rPr sz="1500"/>
            </a:br>
            <a:r>
              <a:rPr b="1" lang="it-IT" sz="1500" spc="-1" strike="noStrike">
                <a:solidFill>
                  <a:srgbClr val="404040"/>
                </a:solidFill>
                <a:latin typeface="Century Gothic"/>
              </a:rPr>
              <a:t>Riproduzione fotostatica su carta (fotocopie):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In bianco e nero </a:t>
            </a:r>
            <a:br>
              <a:rPr sz="1500"/>
            </a:b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formato A4: € 0,10 per pagina</a:t>
            </a:r>
            <a:br>
              <a:rPr sz="1500"/>
            </a:b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formato A3: € 0,15 per pagina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A colori</a:t>
            </a:r>
            <a:br>
              <a:rPr sz="1500"/>
            </a:b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formato A4: € 0,60 per pagina</a:t>
            </a:r>
            <a:br>
              <a:rPr sz="1500"/>
            </a:b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formato A3: € 1,20 per pagina</a:t>
            </a:r>
            <a:br>
              <a:rPr sz="1400"/>
            </a:br>
            <a:br>
              <a:rPr sz="1400"/>
            </a:br>
            <a:br>
              <a:rPr sz="1500"/>
            </a:br>
            <a:r>
              <a:rPr b="1" lang="it-IT" sz="15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5076360" y="2204640"/>
            <a:ext cx="38228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500" spc="-1" strike="noStrike">
                <a:solidFill>
                  <a:srgbClr val="404040"/>
                </a:solidFill>
                <a:latin typeface="Century Gothic"/>
              </a:rPr>
              <a:t>Riproduzione digitale tramite scanner planetario (</a:t>
            </a: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per scansione si intende la digitalizzazione di una </a:t>
            </a:r>
            <a:r>
              <a:rPr b="1" lang="it-IT" sz="1500" spc="-1" strike="noStrike">
                <a:solidFill>
                  <a:srgbClr val="404040"/>
                </a:solidFill>
                <a:latin typeface="Century Gothic"/>
              </a:rPr>
              <a:t>singola pagina</a:t>
            </a: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)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• </a:t>
            </a:r>
            <a:r>
              <a:rPr b="1" lang="it-IT" sz="1500" spc="-1" strike="noStrike">
                <a:solidFill>
                  <a:srgbClr val="404040"/>
                </a:solidFill>
                <a:latin typeface="Century Gothic"/>
              </a:rPr>
              <a:t>Con fornitura di file:</a:t>
            </a:r>
            <a:br>
              <a:rPr sz="1500"/>
            </a:b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costo della prima scansione: € 1,50</a:t>
            </a:r>
            <a:br>
              <a:rPr sz="1500"/>
            </a:b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coso delle successive scansioni: € 0,50 cadauna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500"/>
            </a:b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•</a:t>
            </a:r>
            <a:r>
              <a:rPr b="1" lang="it-IT" sz="15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it-IT" sz="1500" spc="-1" strike="noStrike">
                <a:solidFill>
                  <a:srgbClr val="404040"/>
                </a:solidFill>
                <a:latin typeface="Century Gothic"/>
              </a:rPr>
              <a:t>Con fornitura di file e riproduzione su carta:</a:t>
            </a:r>
            <a:br>
              <a:rPr sz="1500"/>
            </a:b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costo della prima scansione: € 2,00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500" spc="-1" strike="noStrike">
                <a:solidFill>
                  <a:srgbClr val="404040"/>
                </a:solidFill>
                <a:latin typeface="Century Gothic"/>
              </a:rPr>
              <a:t>Ritardo consegna libri e multimediali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Sanzione per ogni giorno di ritardo nella restituzione di un documento: € 0,20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4" name="Segnaposto piè di pagina 4"/>
          <p:cNvSpPr/>
          <p:nvPr/>
        </p:nvSpPr>
        <p:spPr>
          <a:xfrm>
            <a:off x="5076720" y="62373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618920" y="623880"/>
            <a:ext cx="691524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262626"/>
                </a:solidFill>
                <a:latin typeface="Century Gothic"/>
              </a:rPr>
              <a:t>9. Altre attività svolt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1618920" y="1644480"/>
            <a:ext cx="352116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Dal 15 settembre al 23 ottobre un nuovo ciclo di incontri con scrittrici denominato “Scaffali”,  incentrato sull'editoria femminile al fine di dare voce e maggiore visibilità a donne e autrici contemporanee (Silvia Romani, Maura Corassi, Cristina dell'Acqua).</a:t>
            </a: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Sabato 12 novembre è stata realizzata l'iniziativa denominata “Le parole Scappate”, in occasione della settimana celebrativa della Giornata della Gentilezza, articolata in incontri, letture e laboratori utili ad indagare il concetto di gentilezza.</a:t>
            </a: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Rassegna di cultura artistico-letteraria denominata “Dialogues”, prevista nel periodo dal 25 novembre al 20 febbraio 2023, promossa dal critico d'arte Fabio Migliorati, Feltrinelli Edizioni e Maretti Editore</a:t>
            </a: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Presentazione del volume di Federico Canaccini dal titolo “Il Medioevo in 21 battaglie”, Laterza, 26 novembre presso la Sala conferenze con gli interventi del Prof. Franco Franceschi dell'Università di Siena e del Prof. Leonardo Magionami Presidente del Corso di Laurea in Storia e Filosofia dell'Università di Siena – Arezzo.</a:t>
            </a: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5363640" y="1915920"/>
            <a:ext cx="317052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III edizione del Festival “Leggere ci unisce – Arezzo dei Lettori”, 25 e 26 giugno, festival letterario presso la Fortezza.</a:t>
            </a: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Rassegna “Zenzero – centrifuga di parole, energia della mente” nei giorni 7, 8 e 9 ottobre e le presentazioni dei libri di Lucrezia Lombardo in data 8 luglio e Vittorio Casillo in data 25 novembre.</a:t>
            </a: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Compartecipazione per il catalogo della mostra dell'artista Fabio Viale promossa dalla Fondazione Guido d'Arezzo intitolata “Aurum” inaugurata il 19 giugno.</a:t>
            </a: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31 agosto si è svolto in collaborazione con la Libreria La Feltrinelli Point di Arezzo, l'incontro con il Prof. Carlo Ginzburg nel quale è stato presentato il libro “Indagini su Piero” il giorno 31 agosto nel Sagrato della Basilica di S. Francesco.</a:t>
            </a: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8" name="Segnaposto piè di pagina 4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Century Gothic"/>
              </a:rPr>
              <a:t>Relazione sulla Performance 2022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262626"/>
                </a:solidFill>
                <a:latin typeface="Century Gothic"/>
              </a:rPr>
              <a:t>10. Analisi dati anno 2022 </a:t>
            </a:r>
            <a:br>
              <a:rPr sz="2800"/>
            </a:br>
            <a:r>
              <a:rPr b="0" lang="it-IT" sz="2800" spc="-1" strike="noStrike">
                <a:solidFill>
                  <a:srgbClr val="262626"/>
                </a:solidFill>
                <a:latin typeface="Century Gothic"/>
              </a:rPr>
              <a:t>Prestiti totali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0" name="Segnaposto piè di pagina 3"/>
          <p:cNvSpPr/>
          <p:nvPr/>
        </p:nvSpPr>
        <p:spPr>
          <a:xfrm>
            <a:off x="4356000" y="6237360"/>
            <a:ext cx="343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ndara"/>
              </a:rPr>
              <a:t>Relazione sulla Performance 202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1" name="CasellaDiTesto 1"/>
          <p:cNvSpPr/>
          <p:nvPr/>
        </p:nvSpPr>
        <p:spPr>
          <a:xfrm>
            <a:off x="8102520" y="2898720"/>
            <a:ext cx="86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ndara"/>
              </a:rPr>
              <a:t>43.222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92" name="Segnaposto contenuto 3" descr=""/>
          <p:cNvPicPr/>
          <p:nvPr/>
        </p:nvPicPr>
        <p:blipFill>
          <a:blip r:embed="rId1"/>
          <a:stretch/>
        </p:blipFill>
        <p:spPr>
          <a:xfrm>
            <a:off x="971640" y="1917720"/>
            <a:ext cx="7777080" cy="3887640"/>
          </a:xfrm>
          <a:prstGeom prst="rect">
            <a:avLst/>
          </a:prstGeom>
          <a:ln w="0">
            <a:noFill/>
          </a:ln>
        </p:spPr>
      </p:pic>
      <p:sp>
        <p:nvSpPr>
          <p:cNvPr id="1293" name="CasellaDiTesto 4"/>
          <p:cNvSpPr/>
          <p:nvPr/>
        </p:nvSpPr>
        <p:spPr>
          <a:xfrm>
            <a:off x="3924360" y="214488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entury Gothic"/>
              </a:rPr>
              <a:t>58.334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042920" y="623520"/>
            <a:ext cx="74916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262626"/>
                </a:solidFill>
                <a:latin typeface="Century Gothic"/>
              </a:rPr>
              <a:t>10. Analisi dati anno 2022 </a:t>
            </a:r>
            <a:br>
              <a:rPr sz="2800"/>
            </a:br>
            <a:r>
              <a:rPr b="0" lang="it-IT" sz="2800" spc="-1" strike="noStrike">
                <a:solidFill>
                  <a:srgbClr val="262626"/>
                </a:solidFill>
                <a:latin typeface="Century Gothic"/>
              </a:rPr>
              <a:t>Prestiti interbibliotecari passivi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5" name="Segnaposto piè di pagina 3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ndara"/>
              </a:rPr>
              <a:t>Relazione sulla Performance 202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96" name="Segnaposto contenuto 3" descr=""/>
          <p:cNvPicPr/>
          <p:nvPr/>
        </p:nvPicPr>
        <p:blipFill>
          <a:blip r:embed="rId1"/>
          <a:stretch/>
        </p:blipFill>
        <p:spPr>
          <a:xfrm>
            <a:off x="1042920" y="1933560"/>
            <a:ext cx="763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262626"/>
                </a:solidFill>
                <a:latin typeface="Century Gothic"/>
              </a:rPr>
              <a:t>10. Analisi dati anno 2022</a:t>
            </a:r>
            <a:br>
              <a:rPr sz="3600"/>
            </a:br>
            <a:r>
              <a:rPr b="0" lang="it-IT" sz="3100" spc="-1" strike="noStrike">
                <a:solidFill>
                  <a:srgbClr val="262626"/>
                </a:solidFill>
                <a:latin typeface="Century Gothic"/>
              </a:rPr>
              <a:t>Presti interbibliotecari attivi</a:t>
            </a:r>
            <a:endParaRPr b="0" lang="en-US" sz="31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8" name="Segnaposto piè di pagina 3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ndara"/>
              </a:rPr>
              <a:t>Relazione sulla Performance 202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99" name="Segnaposto contenuto 3" descr=""/>
          <p:cNvPicPr/>
          <p:nvPr/>
        </p:nvPicPr>
        <p:blipFill>
          <a:blip r:embed="rId1"/>
          <a:stretch/>
        </p:blipFill>
        <p:spPr>
          <a:xfrm>
            <a:off x="1332000" y="2049480"/>
            <a:ext cx="722304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262626"/>
                </a:solidFill>
                <a:latin typeface="Century Gothic"/>
              </a:rPr>
              <a:t>10. Analisi dati anno 2022 </a:t>
            </a:r>
            <a:br>
              <a:rPr sz="3600"/>
            </a:br>
            <a:r>
              <a:rPr b="0" lang="it-IT" sz="3100" spc="-1" strike="noStrike">
                <a:solidFill>
                  <a:srgbClr val="262626"/>
                </a:solidFill>
                <a:latin typeface="Century Gothic"/>
              </a:rPr>
              <a:t>Rilevazione presenze feb-marzo</a:t>
            </a:r>
            <a:endParaRPr b="0" lang="en-US" sz="31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1" name="Segnaposto piè di pagina 3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ndara"/>
              </a:rPr>
              <a:t>Relazione sulla Performance 202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2" name="AutoShape 7"/>
          <p:cNvSpPr/>
          <p:nvPr/>
        </p:nvSpPr>
        <p:spPr>
          <a:xfrm>
            <a:off x="141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03" name="Segnaposto contenuto 3" descr=""/>
          <p:cNvPicPr/>
          <p:nvPr/>
        </p:nvPicPr>
        <p:blipFill>
          <a:blip r:embed="rId1"/>
          <a:stretch/>
        </p:blipFill>
        <p:spPr>
          <a:xfrm>
            <a:off x="1314360" y="2060640"/>
            <a:ext cx="72201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12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7b724f"/>
                </a:solidFill>
                <a:latin typeface="Century Gothic"/>
              </a:rPr>
              <a:t>1. Presentazione della Biblioteca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1835280" y="1916280"/>
            <a:ext cx="640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404040"/>
                </a:solidFill>
                <a:latin typeface="Century Gothic"/>
              </a:rPr>
              <a:t>ORGANI DELLA BIBLIOTEC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Gli organi dell'Istituzione Biblioteca Città di Arezzo sono i seguenti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Il Presidente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Il Consiglio di amministrazione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Il Direttore (Dirigente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Tutti sono nominati dal Sindaco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Segnaposto piè di pagina 3"/>
          <p:cNvSpPr/>
          <p:nvPr/>
        </p:nvSpPr>
        <p:spPr>
          <a:xfrm>
            <a:off x="4975200" y="6269040"/>
            <a:ext cx="300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86" name="Picture 2" descr=""/>
          <p:cNvPicPr/>
          <p:nvPr/>
        </p:nvPicPr>
        <p:blipFill>
          <a:blip r:embed="rId1"/>
          <a:stretch/>
        </p:blipFill>
        <p:spPr>
          <a:xfrm>
            <a:off x="6588000" y="3357720"/>
            <a:ext cx="142092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262626"/>
                </a:solidFill>
                <a:latin typeface="Century Gothic"/>
              </a:rPr>
              <a:t>10. Analisi dati anno 2022 </a:t>
            </a:r>
            <a:br>
              <a:rPr sz="3200"/>
            </a:br>
            <a:r>
              <a:rPr b="0" lang="it-IT" sz="2800" spc="-1" strike="noStrike">
                <a:solidFill>
                  <a:srgbClr val="262626"/>
                </a:solidFill>
                <a:latin typeface="Century Gothic"/>
              </a:rPr>
              <a:t>Rilevazione presenze giugno/luglio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5" name="Segnaposto piè di pagina 3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ndara"/>
              </a:rPr>
              <a:t>Relazione sulla Performance 202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06" name="Segnaposto contenuto 3" descr=""/>
          <p:cNvPicPr/>
          <p:nvPr/>
        </p:nvPicPr>
        <p:blipFill>
          <a:blip r:embed="rId1"/>
          <a:stretch/>
        </p:blipFill>
        <p:spPr>
          <a:xfrm>
            <a:off x="1547640" y="2176560"/>
            <a:ext cx="698688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700" spc="-1" strike="noStrike">
                <a:solidFill>
                  <a:srgbClr val="464646"/>
                </a:solidFill>
                <a:latin typeface="Century Gothic"/>
              </a:rPr>
              <a:t>10. Analisi dati anno 2022 </a:t>
            </a:r>
            <a:br>
              <a:rPr sz="3700"/>
            </a:br>
            <a:r>
              <a:rPr b="0" lang="it-IT" sz="2800" spc="-1" strike="noStrike">
                <a:solidFill>
                  <a:srgbClr val="464646"/>
                </a:solidFill>
                <a:latin typeface="Century Gothic"/>
              </a:rPr>
              <a:t>Nuovi utenti iscritti 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8" name="Segnaposto piè di pagina 3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ndara"/>
              </a:rPr>
              <a:t>Relazione sulla Performance 202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09" name="Immagine 3" descr=""/>
          <p:cNvPicPr/>
          <p:nvPr/>
        </p:nvPicPr>
        <p:blipFill>
          <a:blip r:embed="rId1"/>
          <a:stretch/>
        </p:blipFill>
        <p:spPr>
          <a:xfrm>
            <a:off x="1521000" y="1989000"/>
            <a:ext cx="70135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700" spc="-1" strike="noStrike">
                <a:solidFill>
                  <a:srgbClr val="464646"/>
                </a:solidFill>
                <a:latin typeface="Century Gothic"/>
              </a:rPr>
              <a:t>10. Analisi dati anno 2022 </a:t>
            </a:r>
            <a:br>
              <a:rPr sz="3700"/>
            </a:br>
            <a:r>
              <a:rPr b="0" lang="it-IT" sz="2800" spc="-1" strike="noStrike">
                <a:solidFill>
                  <a:srgbClr val="464646"/>
                </a:solidFill>
                <a:latin typeface="Century Gothic"/>
              </a:rPr>
              <a:t>Bilancio entrate 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1" name="Segnaposto piè di pagina 3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ndara"/>
              </a:rPr>
              <a:t>Relazione sulla Performance 202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12" name="Segnaposto contenuto 3" descr=""/>
          <p:cNvPicPr/>
          <p:nvPr/>
        </p:nvPicPr>
        <p:blipFill>
          <a:blip r:embed="rId1"/>
          <a:stretch/>
        </p:blipFill>
        <p:spPr>
          <a:xfrm>
            <a:off x="1314360" y="2060640"/>
            <a:ext cx="72201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700" spc="-1" strike="noStrike">
                <a:solidFill>
                  <a:srgbClr val="464646"/>
                </a:solidFill>
                <a:latin typeface="Century Gothic"/>
              </a:rPr>
              <a:t>10. Analisi dati anno 2022 </a:t>
            </a:r>
            <a:br>
              <a:rPr sz="3700"/>
            </a:br>
            <a:r>
              <a:rPr b="0" lang="it-IT" sz="2800" spc="-1" strike="noStrike">
                <a:solidFill>
                  <a:srgbClr val="464646"/>
                </a:solidFill>
                <a:latin typeface="Century Gothic"/>
              </a:rPr>
              <a:t>Bilancio uscite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4" name="Segnaposto piè di pagina 3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ndara"/>
              </a:rPr>
              <a:t>Relazione sulla Performance 202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15" name="Segnaposto contenuto 3" descr=""/>
          <p:cNvPicPr/>
          <p:nvPr/>
        </p:nvPicPr>
        <p:blipFill>
          <a:blip r:embed="rId1"/>
          <a:stretch/>
        </p:blipFill>
        <p:spPr>
          <a:xfrm>
            <a:off x="1314360" y="2060640"/>
            <a:ext cx="72201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476000" y="691920"/>
            <a:ext cx="721044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262626"/>
                </a:solidFill>
                <a:latin typeface="Century Gothic"/>
              </a:rPr>
              <a:t>11. Prevenzione della corruzione e trasparenza 2022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1258560" y="1480680"/>
            <a:ext cx="74278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404040"/>
                </a:solidFill>
                <a:latin typeface="Century Gothic"/>
              </a:rPr>
              <a:t>Con deliberazione del CDA n. 2 del 17.01.2018 è stato nominato, ai sensi del combinato disposto dell’art. 1 comma 7 della legge 6 novembre 2012, n. 190 e s.m.i. e dell’art. 43, comma 1. del D.Lgs. 33/2013 quale Responsabile della prevenzione della corruzione e della trasparenza dell’Istituzione Biblioteca Città di Arezzo,  il Segretario Generale del Comune di Arezzo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404040"/>
                </a:solidFill>
                <a:latin typeface="Century Gothic"/>
              </a:rPr>
              <a:t>Il Responsabile per la prevenzione della corruzione e della trasparenza dell’Istituzione Biblioteca Città di Arezzo, ha elaborato e predisposto il Piano triennale di prevenzione della corruzione e della trasparenza del Comune di Arezzo, al cui interno ha trovato collocazione  anche la valutazione del rischio e le misure atte a contrastarlo, relativamente ai processi dell’Istituzione Biblioteca, previa redazione delle relative schede da parte dell’Istituzione. 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404040"/>
                </a:solidFill>
                <a:latin typeface="Century Gothic"/>
              </a:rPr>
              <a:t>In materia di trasparenza l’Istituzione ha curato la pubblicazione e l’aggiornamento sul sito istituzionale dei dati e delle informazioni per i quali il D. Lgs. 33/2013 dispone l’ obbligo di pubblicazione. 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404040"/>
                </a:solidFill>
                <a:latin typeface="Century Gothic"/>
              </a:rPr>
              <a:t>Il RPCT ha elaborato la relazione annuale relativa all’attuazione del Piano triennale di prevenzione della corruzione e della trasparenza, pubblicata sul sito istituzionale del Comune di Arezzo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8" name="Segnaposto piè di pagina 3"/>
          <p:cNvSpPr/>
          <p:nvPr/>
        </p:nvSpPr>
        <p:spPr>
          <a:xfrm>
            <a:off x="4379760" y="6408720"/>
            <a:ext cx="3648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ndara"/>
              </a:rPr>
              <a:t>Relazione sulla Performance 202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7b724f"/>
                </a:solidFill>
                <a:latin typeface="Century Gothic"/>
              </a:rPr>
              <a:t>1. Presentazione della Biblioteca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1763640" y="1628280"/>
            <a:ext cx="6400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800" spc="-1" strike="noStrike">
                <a:solidFill>
                  <a:srgbClr val="404040"/>
                </a:solidFill>
                <a:latin typeface="Century Gothic"/>
              </a:rPr>
              <a:t>DIREZIONE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Dirigente: Alfonso Pisacan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Direttore delegato (P.O): Laura Guadagni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800" spc="-1" strike="noStrike">
                <a:solidFill>
                  <a:srgbClr val="404040"/>
                </a:solidFill>
                <a:latin typeface="Century Gothic"/>
              </a:rPr>
              <a:t>PERSONALE DIPENDENTE IN SERVIZIO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n. 1 - Bibliotecario: Categoria D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n. 3 - Ufficio Amministrativo: n. 1 categoria D, n. 1 categoria B, n. 1 categoria C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n. 1 - Personale Front-office:  categoria B </a:t>
            </a:r>
            <a:r>
              <a:rPr b="0" lang="it-IT" sz="1400" spc="-1" strike="noStrike">
                <a:solidFill>
                  <a:srgbClr val="404040"/>
                </a:solidFill>
                <a:latin typeface="Century Gothic"/>
              </a:rPr>
              <a:t>–( n. 1 categoria B fino a marzo)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TOTALE N. 5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9" name="Segnaposto piè di pagina 2"/>
          <p:cNvSpPr/>
          <p:nvPr/>
        </p:nvSpPr>
        <p:spPr>
          <a:xfrm>
            <a:off x="4788000" y="6222960"/>
            <a:ext cx="27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67694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262626"/>
                </a:solidFill>
                <a:latin typeface="Century Gothic"/>
              </a:rPr>
              <a:t>2. Ciclo della Performanc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971280" y="1654200"/>
            <a:ext cx="698508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Con la Delibera n. 31 del 23/10/2019 il Consiglio di Amministrazione ha adottato per l’Istituzione Biblioteca Città di Arezzo il Sistema di valutazione della performance, già approvato dalla Giunta comunale per il Comune di Arezzo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Con Delibera n. 20 del 09/06/2022, il Consiglio di Amministrazione della Biblioteca ha approvato la nomina del Nucleo di Valutazione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Con Delibera n. 12 del 12/04/2022, il Consiglio di Amministrazione della Biblioteca ha approvato il Piano della performance per gli anni 2021-2023 comprensivo degli Obiettivi strategici e del Piano delle Attività, per la valutazione delle attività ‘ordinarie’ della Biblioteca e del personale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2" name="Segnaposto piè di pagina 2"/>
          <p:cNvSpPr/>
          <p:nvPr/>
        </p:nvSpPr>
        <p:spPr>
          <a:xfrm>
            <a:off x="4379760" y="6408720"/>
            <a:ext cx="3279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3" name="Picture 2" descr=""/>
          <p:cNvPicPr/>
          <p:nvPr/>
        </p:nvPicPr>
        <p:blipFill>
          <a:blip r:embed="rId1"/>
          <a:stretch/>
        </p:blipFill>
        <p:spPr>
          <a:xfrm>
            <a:off x="5867280" y="5373720"/>
            <a:ext cx="1546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70563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800" spc="-1" strike="noStrike">
                <a:solidFill>
                  <a:srgbClr val="7b724f"/>
                </a:solidFill>
                <a:latin typeface="Century Gothic"/>
              </a:rPr>
              <a:t>2. Ciclo della Performance</a:t>
            </a:r>
            <a:endParaRPr b="0" lang="en-US" sz="3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Segnaposto piè di pagina 2"/>
          <p:cNvSpPr/>
          <p:nvPr/>
        </p:nvSpPr>
        <p:spPr>
          <a:xfrm rot="5400000">
            <a:off x="6781680" y="4952880"/>
            <a:ext cx="2895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6" name="Rettangolo arrotondato 9"/>
          <p:cNvSpPr/>
          <p:nvPr/>
        </p:nvSpPr>
        <p:spPr>
          <a:xfrm>
            <a:off x="1116000" y="1773360"/>
            <a:ext cx="1871640" cy="93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7" name="CasellaDiTesto 10"/>
          <p:cNvSpPr/>
          <p:nvPr/>
        </p:nvSpPr>
        <p:spPr>
          <a:xfrm>
            <a:off x="1104840" y="1917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Bilancio di Prevision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8" name="Rettangolo arrotondato 11"/>
          <p:cNvSpPr/>
          <p:nvPr/>
        </p:nvSpPr>
        <p:spPr>
          <a:xfrm>
            <a:off x="3287880" y="1803240"/>
            <a:ext cx="1873080" cy="93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9" name="CasellaDiTesto 12"/>
          <p:cNvSpPr/>
          <p:nvPr/>
        </p:nvSpPr>
        <p:spPr>
          <a:xfrm>
            <a:off x="3276720" y="1812960"/>
            <a:ext cx="17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Approvazione Obiettivi strategici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0" name="Rettangolo arrotondato 13"/>
          <p:cNvSpPr/>
          <p:nvPr/>
        </p:nvSpPr>
        <p:spPr>
          <a:xfrm>
            <a:off x="5580000" y="1789200"/>
            <a:ext cx="1871640" cy="93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1" name="CasellaDiTesto 14"/>
          <p:cNvSpPr/>
          <p:nvPr/>
        </p:nvSpPr>
        <p:spPr>
          <a:xfrm>
            <a:off x="5651640" y="177948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Approvazione Piano della Performanc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2" name="Rettangolo arrotondato 17"/>
          <p:cNvSpPr/>
          <p:nvPr/>
        </p:nvSpPr>
        <p:spPr>
          <a:xfrm>
            <a:off x="2127240" y="3040200"/>
            <a:ext cx="1657440" cy="790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3" name="CasellaDiTesto 18"/>
          <p:cNvSpPr/>
          <p:nvPr/>
        </p:nvSpPr>
        <p:spPr>
          <a:xfrm>
            <a:off x="2200320" y="31845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Attività ordinari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4" name="Rettangolo arrotondato 19"/>
          <p:cNvSpPr/>
          <p:nvPr/>
        </p:nvSpPr>
        <p:spPr>
          <a:xfrm>
            <a:off x="4438800" y="3068640"/>
            <a:ext cx="181440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5" name="CasellaDiTesto 20"/>
          <p:cNvSpPr/>
          <p:nvPr/>
        </p:nvSpPr>
        <p:spPr>
          <a:xfrm>
            <a:off x="4618080" y="318456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Obiettivi operativi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6" name="Rettangolo arrotondato 21"/>
          <p:cNvSpPr/>
          <p:nvPr/>
        </p:nvSpPr>
        <p:spPr>
          <a:xfrm>
            <a:off x="1547640" y="4114800"/>
            <a:ext cx="5256360" cy="579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Assegnazion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7" name="CasellaDiTesto 22"/>
          <p:cNvSpPr/>
          <p:nvPr/>
        </p:nvSpPr>
        <p:spPr>
          <a:xfrm>
            <a:off x="1987560" y="4265640"/>
            <a:ext cx="41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Assegnazione Obiettivi individuali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8" name="Rettangolo arrotondato 23"/>
          <p:cNvSpPr/>
          <p:nvPr/>
        </p:nvSpPr>
        <p:spPr>
          <a:xfrm>
            <a:off x="1547640" y="4795920"/>
            <a:ext cx="525636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Assegnazion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9" name="CasellaDiTesto 24"/>
          <p:cNvSpPr/>
          <p:nvPr/>
        </p:nvSpPr>
        <p:spPr>
          <a:xfrm>
            <a:off x="2071800" y="4869000"/>
            <a:ext cx="43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Verifica: obiettivi individuali, obiettivi strategici e attività ordinari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0" name="Rettangolo arrotondato 25"/>
          <p:cNvSpPr/>
          <p:nvPr/>
        </p:nvSpPr>
        <p:spPr>
          <a:xfrm>
            <a:off x="1547640" y="5605560"/>
            <a:ext cx="525636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Assegnazion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1" name="CasellaDiTesto 26"/>
          <p:cNvSpPr/>
          <p:nvPr/>
        </p:nvSpPr>
        <p:spPr>
          <a:xfrm>
            <a:off x="2039760" y="5811840"/>
            <a:ext cx="431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</a:rPr>
              <a:t>Valutazione finale del dipendent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2" name="Connettore 1 38"/>
          <p:cNvSpPr/>
          <p:nvPr/>
        </p:nvSpPr>
        <p:spPr>
          <a:xfrm>
            <a:off x="4078440" y="2738520"/>
            <a:ext cx="0" cy="71100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3" name="Connettore 1 40"/>
          <p:cNvSpPr/>
          <p:nvPr/>
        </p:nvSpPr>
        <p:spPr>
          <a:xfrm>
            <a:off x="3784680" y="3435480"/>
            <a:ext cx="654120" cy="1404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4" name="Connettore 1 42"/>
          <p:cNvSpPr/>
          <p:nvPr/>
        </p:nvSpPr>
        <p:spPr>
          <a:xfrm>
            <a:off x="2955960" y="3830760"/>
            <a:ext cx="0" cy="28404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5" name="Connettore 1 44"/>
          <p:cNvSpPr/>
          <p:nvPr/>
        </p:nvSpPr>
        <p:spPr>
          <a:xfrm>
            <a:off x="5346720" y="3830760"/>
            <a:ext cx="0" cy="28404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6" name="Connettore 1 46"/>
          <p:cNvSpPr/>
          <p:nvPr/>
        </p:nvSpPr>
        <p:spPr>
          <a:xfrm>
            <a:off x="2050920" y="2708280"/>
            <a:ext cx="0" cy="21600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7" name="Connettore 1 48"/>
          <p:cNvSpPr/>
          <p:nvPr/>
        </p:nvSpPr>
        <p:spPr>
          <a:xfrm>
            <a:off x="6516720" y="2725560"/>
            <a:ext cx="0" cy="19872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8" name="Connettore 1 50"/>
          <p:cNvSpPr/>
          <p:nvPr/>
        </p:nvSpPr>
        <p:spPr>
          <a:xfrm>
            <a:off x="2039760" y="2924280"/>
            <a:ext cx="4476960" cy="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9" name="Parentesi quadra chiusa 53"/>
          <p:cNvSpPr/>
          <p:nvPr/>
        </p:nvSpPr>
        <p:spPr>
          <a:xfrm>
            <a:off x="6804000" y="4449600"/>
            <a:ext cx="432000" cy="563760"/>
          </a:xfrm>
          <a:custGeom>
            <a:avLst/>
            <a:gdLst>
              <a:gd name="textAreaLeft" fmla="*/ 0 w 432000"/>
              <a:gd name="textAreaRight" fmla="*/ 303120 w 432000"/>
              <a:gd name="textAreaTop" fmla="*/ 18000 h 563760"/>
              <a:gd name="textAreaBottom" fmla="*/ 54576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690"/>
                  <a:pt x="21600" y="1379"/>
                </a:cubicBezTo>
                <a:lnTo>
                  <a:pt x="21600" y="20221"/>
                </a:lnTo>
                <a:cubicBezTo>
                  <a:pt x="21600" y="20911"/>
                  <a:pt x="10800" y="21600"/>
                  <a:pt x="0" y="21600"/>
                </a:cubicBezTo>
              </a:path>
            </a:pathLst>
          </a:custGeom>
          <a:noFill/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0" name="Parentesi quadra chiusa 54"/>
          <p:cNvSpPr/>
          <p:nvPr/>
        </p:nvSpPr>
        <p:spPr>
          <a:xfrm>
            <a:off x="6804000" y="5295960"/>
            <a:ext cx="432000" cy="619200"/>
          </a:xfrm>
          <a:custGeom>
            <a:avLst/>
            <a:gdLst>
              <a:gd name="textAreaLeft" fmla="*/ 0 w 432000"/>
              <a:gd name="textAreaRight" fmla="*/ 303120 w 432000"/>
              <a:gd name="textAreaTop" fmla="*/ 17640 h 619200"/>
              <a:gd name="textAreaBottom" fmla="*/ 601560 h 61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628"/>
                  <a:pt x="21600" y="1255"/>
                </a:cubicBezTo>
                <a:lnTo>
                  <a:pt x="21600" y="20345"/>
                </a:lnTo>
                <a:cubicBezTo>
                  <a:pt x="21600" y="20973"/>
                  <a:pt x="10800" y="21600"/>
                  <a:pt x="0" y="21600"/>
                </a:cubicBezTo>
              </a:path>
            </a:pathLst>
          </a:custGeom>
          <a:noFill/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1" name="Parentesi quadra aperta 55"/>
          <p:cNvSpPr/>
          <p:nvPr/>
        </p:nvSpPr>
        <p:spPr>
          <a:xfrm>
            <a:off x="1258920" y="4449600"/>
            <a:ext cx="288720" cy="563760"/>
          </a:xfrm>
          <a:custGeom>
            <a:avLst/>
            <a:gdLst>
              <a:gd name="textAreaLeft" fmla="*/ 84960 w 288720"/>
              <a:gd name="textAreaRight" fmla="*/ 289080 w 288720"/>
              <a:gd name="textAreaTop" fmla="*/ 11880 h 563760"/>
              <a:gd name="textAreaBottom" fmla="*/ 551880 h 56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2"/>
                  <a:pt x="0" y="923"/>
                </a:cubicBezTo>
                <a:lnTo>
                  <a:pt x="0" y="20677"/>
                </a:lnTo>
                <a:cubicBezTo>
                  <a:pt x="0" y="21139"/>
                  <a:pt x="10800" y="21600"/>
                  <a:pt x="21600" y="21600"/>
                </a:cubicBezTo>
              </a:path>
            </a:pathLst>
          </a:custGeom>
          <a:noFill/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2" name="Parentesi quadra aperta 56"/>
          <p:cNvSpPr/>
          <p:nvPr/>
        </p:nvSpPr>
        <p:spPr>
          <a:xfrm>
            <a:off x="1258920" y="5295960"/>
            <a:ext cx="288720" cy="700200"/>
          </a:xfrm>
          <a:custGeom>
            <a:avLst/>
            <a:gdLst>
              <a:gd name="textAreaLeft" fmla="*/ 84960 w 288720"/>
              <a:gd name="textAreaRight" fmla="*/ 289080 w 288720"/>
              <a:gd name="textAreaTop" fmla="*/ 11880 h 700200"/>
              <a:gd name="textAreaBottom" fmla="*/ 688320 h 7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72"/>
                  <a:pt x="0" y="743"/>
                </a:cubicBezTo>
                <a:lnTo>
                  <a:pt x="0" y="20857"/>
                </a:lnTo>
                <a:cubicBezTo>
                  <a:pt x="0" y="21229"/>
                  <a:pt x="10800" y="21600"/>
                  <a:pt x="21600" y="21600"/>
                </a:cubicBezTo>
              </a:path>
            </a:pathLst>
          </a:custGeom>
          <a:noFill/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3" name="Rettangolo arrotondato 31"/>
          <p:cNvSpPr/>
          <p:nvPr/>
        </p:nvSpPr>
        <p:spPr>
          <a:xfrm>
            <a:off x="1569960" y="6307200"/>
            <a:ext cx="5256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Rendicontazion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6769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800" spc="-1" strike="noStrike">
                <a:solidFill>
                  <a:srgbClr val="7b724f"/>
                </a:solidFill>
                <a:latin typeface="Century Gothic"/>
              </a:rPr>
              <a:t>2. Ciclo della Performance</a:t>
            </a:r>
            <a:endParaRPr b="0" lang="en-US" sz="3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900000" y="1484280"/>
            <a:ext cx="7407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300" spc="-1" strike="noStrike">
                <a:solidFill>
                  <a:srgbClr val="404040"/>
                </a:solidFill>
                <a:latin typeface="Century Gothic"/>
                <a:ea typeface="Arial"/>
              </a:rPr>
              <a:t>ATTIVITA’ ORDINARIE: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Attività amministrativa-contabile, redazione di atti amministrativi per la realizzazione di tutte le attività della biblioteca e della Rete documentaria aretina; 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Promozione alla lettura inventariazione e schedatura nel catalogo del materiale documentario, </a:t>
            </a:r>
            <a:r>
              <a:rPr b="0" i="1" lang="it-IT" sz="1300" spc="-1" strike="noStrike">
                <a:solidFill>
                  <a:srgbClr val="404040"/>
                </a:solidFill>
                <a:latin typeface="Century Gothic"/>
              </a:rPr>
              <a:t>reference</a:t>
            </a: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,  acquisto nuovi documenti, gestione del sito web, organizzazione di attività culturali, servizio prestito e lettura in sede, distribuzione e ricollocazione materiale librario, servizio fotocopie e internet; 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Conservazione del patrimonio librario corretta conservazione del materiale antico e moderno, gestione deposito legale, digitalizzazione materiali della biblioteca e di altri enti e gestione immagini, catalogazione;  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Gestione Rete documentaria aretina redazione progetti, regolamenti, convenzioni e rendiconti per le biblioteche della provincia di Arezzo, sviluppo e realizzazione delle linee d'azione della rete, organizzazione riunioni e gruppi di lavoro, coordinamento con uffici regionali e provinciali;  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404040"/>
                </a:solidFill>
                <a:latin typeface="Century Gothic"/>
              </a:rPr>
              <a:t>Gestione e custodia Palazzo Pretorio inerente la conservazione, il mantenimento e il controllo impianti 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300" spc="-1" strike="noStrike">
                <a:solidFill>
                  <a:srgbClr val="404040"/>
                </a:solidFill>
                <a:latin typeface="Century Gothic"/>
              </a:rPr>
              <a:t>AL 31 DICEMBRE 2022 LE ATTIVITA’ PREVISTE SONO 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300" spc="-1" strike="noStrike">
                <a:solidFill>
                  <a:srgbClr val="404040"/>
                </a:solidFill>
                <a:latin typeface="Century Gothic"/>
              </a:rPr>
              <a:t>STATE PIENALMENTE RAGGIUNTE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000" spc="-1" strike="noStrike" u="sng">
                <a:solidFill>
                  <a:srgbClr val="ff0000"/>
                </a:solidFill>
                <a:uFillTx/>
                <a:latin typeface="Century Gothic"/>
              </a:rPr>
              <a:t>PUNTEGGIO ASSEGNATO DA NUCLEO DI VALUTAZIONE 100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6" name="Segnaposto piè di pagina 2"/>
          <p:cNvSpPr/>
          <p:nvPr/>
        </p:nvSpPr>
        <p:spPr>
          <a:xfrm>
            <a:off x="4379760" y="6408720"/>
            <a:ext cx="3576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27" name="Picture 2" descr=""/>
          <p:cNvPicPr/>
          <p:nvPr/>
        </p:nvPicPr>
        <p:blipFill>
          <a:blip r:embed="rId1"/>
          <a:stretch/>
        </p:blipFill>
        <p:spPr>
          <a:xfrm>
            <a:off x="7524720" y="5950080"/>
            <a:ext cx="106056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618920" y="623520"/>
            <a:ext cx="69152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262626"/>
                </a:solidFill>
                <a:latin typeface="Century Gothic"/>
              </a:rPr>
              <a:t>2. Ciclo della Performanc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9" name="Segnaposto piè di pagina 3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ndara"/>
              </a:rPr>
              <a:t>Relazione sulla Performance 202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30" name="Immagine 3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818208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476360" y="620640"/>
            <a:ext cx="6834240" cy="8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262626"/>
                </a:solidFill>
                <a:latin typeface="Century Gothic"/>
              </a:rPr>
              <a:t>2. Ciclo della Performanc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1042920" y="170028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404040"/>
                </a:solidFill>
                <a:latin typeface="Century Gothic"/>
              </a:rPr>
              <a:t>OBIETTIVO STRATEGICO N. 1 (OB1)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 u="sng">
                <a:solidFill>
                  <a:srgbClr val="404040"/>
                </a:solidFill>
                <a:uFillTx/>
                <a:latin typeface="Century Gothic"/>
              </a:rPr>
              <a:t>La Biblioteca Digitale:  servizi ai cittadini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Century Gothic"/>
              </a:rPr>
              <a:t>Digitalizzazione materiale antico e raro come manoscritti e periodici antichi e apposizione con relativa registrazione delle etichette di antitaccheggio RFID nei libri di consultazione e prestito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200" spc="-1" strike="noStrike">
                <a:solidFill>
                  <a:srgbClr val="404040"/>
                </a:solidFill>
                <a:latin typeface="Century Gothic"/>
              </a:rPr>
              <a:t>ALLA DATA DEL 31/12/2022 L’OBIETTIVO 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200" spc="-1" strike="noStrike">
                <a:solidFill>
                  <a:srgbClr val="404040"/>
                </a:solidFill>
                <a:latin typeface="Century Gothic"/>
              </a:rPr>
              <a:t>RISULTA PIENAMENTE RAGGIUNTO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000" spc="-1" strike="noStrike" u="sng">
                <a:solidFill>
                  <a:srgbClr val="ff0000"/>
                </a:solidFill>
                <a:uFillTx/>
                <a:latin typeface="Century Gothic"/>
              </a:rPr>
              <a:t>PUNTEGGIO ASSEGNATO DA NUCLEO DI VALUTAZIONE 100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3" name="Segnaposto piè di pagina 3"/>
          <p:cNvSpPr/>
          <p:nvPr/>
        </p:nvSpPr>
        <p:spPr>
          <a:xfrm>
            <a:off x="4379760" y="64087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766f54"/>
                </a:solidFill>
                <a:latin typeface="Candara"/>
              </a:rPr>
              <a:t>Relazione sulla Performance 202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09:19:56Z</dcterms:created>
  <dc:creator>tirocinio1</dc:creator>
  <dc:description/>
  <dc:language>en-US</dc:language>
  <cp:lastModifiedBy>Laura Guadagni</cp:lastModifiedBy>
  <cp:lastPrinted>2019-04-02T08:10:52Z</cp:lastPrinted>
  <dcterms:modified xsi:type="dcterms:W3CDTF">2024-11-27T14:09:07Z</dcterms:modified>
  <cp:revision>259</cp:revision>
  <dc:subject/>
  <dc:title>Relazione sulla Performance  anno 2012</dc:title>
</cp:coreProperties>
</file>